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bcbc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bcbc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B2D8F5-C200-4B92-8F69-469BC88D5AA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66b0ff"/>
                </a:solidFill>
                <a:latin typeface="Corbel"/>
              </a:rPr>
              <a:t>Click to move the slide</a:t>
            </a:r>
            <a:endParaRPr b="1" lang="en-US" sz="4500" spc="-1" strike="noStrike">
              <a:solidFill>
                <a:srgbClr val="66b0ff"/>
              </a:solidFill>
              <a:latin typeface="Corbe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bcbc"/>
              </a:solidFill>
              <a:latin typeface="Aria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FA3B4D-2FCD-4244-B278-F0C877469F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951D96-D1CE-40FA-8D3A-F0D9432D0FE8}" type="slidenum">
              <a:rPr b="0" lang="en-US" sz="1200" spc="-1" strike="noStrike">
                <a:solidFill>
                  <a:srgbClr val="00bcbc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bcbc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E6F15C-3ABE-441F-AFA8-07F499408888}" type="slidenum">
              <a:rPr b="0" lang="en-US" sz="1200" spc="-1" strike="noStrike">
                <a:solidFill>
                  <a:srgbClr val="00bcbc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bcbc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7416DD-3596-4DDE-BF6D-B5E6053B4769}" type="slidenum">
              <a:rPr b="0" lang="en-US" sz="1200" spc="-1" strike="noStrike">
                <a:solidFill>
                  <a:srgbClr val="00bcbc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bcbc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C108-C25A-487B-A520-AE7FA0CAE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66b0ff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EC44-B00F-4AD9-BE99-665908484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66b0ff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1D97-B819-43D7-8519-823D77605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66b0ff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00A7-9BA3-4ED1-8A37-EF7E7C315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F2E82-A49E-4F2D-BE1D-EAE9160AF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66b0ff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9FFF3-F649-4558-86B3-EF41DA63A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66b0ff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652E4-68BA-4E2E-992C-8634A2EBE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66b0ff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D27BD-0B79-4D2E-8398-8A2E72B0F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66b0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62102-5473-40B5-A500-48A3E886E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B01AC-D0A5-4420-92BA-CF6F49B0A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66b0ff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48B00-D680-4CFC-86A7-38AB5F169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66b0ff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17A2-C73D-4AAB-82D4-E06D93812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66b0ff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956D4-601F-4BDC-B237-CDFBBE400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66b0ff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BFD91-09FE-4461-B583-1834C17CD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66b0ff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9D64B-94BD-4053-980F-8B04045A5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66b0ff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B794A-4798-4BAA-BAED-D5332EB59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66b0ff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CEBF6-21CF-4F01-B61C-5BE7F8ECB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9FB99E-8F2E-4045-9F60-485B4B403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66b0ff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A6D21F-5737-433D-A701-A4DF73380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66b0ff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38D53C-33FC-4157-A604-586776739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66b0ff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480E99-378C-4671-8F50-6797CAA90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66b0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8EFFF2-9037-4DB5-BD69-DBE1681D8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66b0ff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F2B6-3FD0-44DF-9884-9EF029ED7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E1157B-C555-4804-BF1F-E45E8CD31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66b0ff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8FA421-F7BC-4129-8590-BD5CC98DC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66b0ff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91DE9B-46B8-4F5A-B6E2-A8FF9669C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66b0ff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319E21-3599-481C-9B60-679F5D901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66b0ff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287583-2EFE-4282-BE51-A33CF9462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66b0ff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BF8562-36D4-476B-ACEA-B6A07B1C8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66b0ff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A5CE12-3EED-49EE-8B83-23805DA6E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D6A183-DF8E-4278-846C-EFF645BE2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66b0ff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013167-268C-4A3F-A078-2C785EDE2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66b0ff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13C600-1142-499C-B458-6F448E30B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66b0ff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E3AC-3FD1-4EEB-84CF-2070FB2DC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66b0ff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56E05C-C119-4C65-8266-AADEC69C5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66b0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B60AF8-4311-4001-A10B-F1FEE8509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BFEA0A-858C-42E8-BC7C-FF772F7D2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66b0ff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D2CF13-F5D0-4BCA-A412-CEA1A0D67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66b0ff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8985D5-A280-427E-A901-3DBCD8DDD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66b0ff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9C4D3F-9547-407A-A0EC-C32D3F9FB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66b0ff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CAE6A3-ED38-4BCA-8887-B5B2778F2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66b0ff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0E7A22-63BE-4091-AC50-C935778CB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66b0ff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7E2E50-A585-4EDE-9A02-670AB86AA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40BB89-E372-4906-868F-7F37721E0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66b0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65E1-F3FF-4487-97EE-4D6526C41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66b0ff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76CC3B-9ED9-4B3E-A8AC-9CD88E708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66b0ff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87083B-B4DE-4329-A1A0-103FB1E9B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66b0ff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A7F2D0-1118-48D7-9E1D-810DDF472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66b0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9555E4-5242-41AC-A71A-AF62E3168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FACEF4-6FEC-49DF-8757-2F690CCBC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66b0ff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A689E0-295A-4D01-97F5-DE12B00E4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66b0ff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A899AB-1CE1-483D-B46E-EAAF606B0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66b0ff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F9220D-AFB9-4C80-BDDC-B07D8324B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66b0ff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CCC7BC-ABC9-4ED8-812B-A6FDE1BB8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66b0ff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5B7AD6-2999-44E3-A0BB-CC0D800C5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BE60-17FE-4CCE-B5B9-9D5D4FE01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66b0ff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6DC87C-BD40-4AD2-8C3F-8693A789D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954EF7-98B7-44E7-98FE-E58FD7BD1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66b0ff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DF6450-B412-446C-AB80-3410D1047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66b0ff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A39932-2BE0-4718-9F68-DCB19F471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66b0ff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E81526-8F8A-4E0E-A603-18412FBA4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66b0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E051F5-4687-490A-BAD5-1D1793E00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8335A8-5D2E-4E8C-A0D8-BC4439B57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66b0ff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78E0E4-B3DC-48DA-A24A-D9DD2B304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66b0ff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437EB1-AB8B-472E-8F84-EFD896489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66b0ff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9CD15E-0A9F-4747-AF0F-9AE9CCCFE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66b0ff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6FE7-47BD-4F34-BB27-29CCE0B86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66b0ff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F2D463-124D-46BF-A7C3-A1D9F4458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66b0ff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B40F28-6A0D-4C20-964F-A4256037E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66b0ff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C3800E-7FAE-4DDE-A3BE-2FCDE0879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D1640D-7288-4C4C-8379-600C899E1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66b0ff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A8702E-C399-43FB-B155-664A67B14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66b0ff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BBFA9B-CF92-4398-8C4E-A3B87FB43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66b0ff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EFCFA5-4137-4F8B-9C82-61CB02873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66b0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A5CAAA-4DFF-4C60-80E2-A3706FA62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F7D1AB-883D-4887-A887-5438B0FB1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66b0ff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4C9B5E-A819-4B61-8830-940A04CF3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66b0ff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C6AC-1D0D-4E1F-A502-422D71669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66b0ff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E19956-0093-4460-9D2E-99BC5036B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66b0ff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E6A3F3-5DD4-40B3-8610-CB9ED713A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66b0ff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07ED98-DED6-4AFD-942B-DD8E82320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66b0ff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228585-8373-4D94-A836-EC14DFB50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66b0ff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036E92-237C-4C45-B11D-9535458C8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66b0ff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C14F-3258-4AAD-891C-F185F0134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bcbc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bcbc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66b0ff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66b0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80b1e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cbc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  <a:p>
            <a:pPr lvl="1" marL="730080" indent="-272880">
              <a:buClr>
                <a:srgbClr val="ac66b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cbc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  <a:p>
            <a:pPr lvl="2" marL="995400" indent="-228600">
              <a:buClr>
                <a:srgbClr val="de6c36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cbc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  <a:p>
            <a:pPr lvl="3" marL="1216080" indent="-182520">
              <a:buClr>
                <a:srgbClr val="f9b639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cbc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  <a:p>
            <a:pPr lvl="4" marL="1425600" indent="-182520">
              <a:buClr>
                <a:srgbClr val="cf6da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cbc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  <a:p>
            <a:pPr lvl="5" marL="1425600" indent="-182520">
              <a:buClr>
                <a:srgbClr val="00bcbc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cbc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  <a:p>
            <a:pPr lvl="6" marL="1425600" indent="-182520">
              <a:buClr>
                <a:srgbClr val="00bcbc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cbc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fc0c0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90AE87-BECB-4255-A9DB-E84FCB7443AB}" type="datetime">
              <a:rPr b="0" lang="en-US" sz="1200" spc="-1" strike="noStrike">
                <a:solidFill>
                  <a:srgbClr val="3fc0c0"/>
                </a:solidFill>
                <a:latin typeface="Corbe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bcb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fc0c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B7EB3A-F6B8-43D4-AEF1-672F2CEA00EC}" type="slidenum">
              <a:rPr b="0" lang="en-US" sz="1200" spc="-1" strike="noStrike">
                <a:solidFill>
                  <a:srgbClr val="3fc0c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bcbc"/>
              </a:solidFill>
              <a:latin typeface="Aria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bcbc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66b0ff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66b0ff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80b1e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ac66b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de6c36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f9b639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cf6da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93E467-F571-4EF4-B164-1EF31B80DCDB}" type="datetime">
              <a:rPr b="0" lang="en-US" sz="1200" spc="-1" strike="noStrike">
                <a:solidFill>
                  <a:srgbClr val="ffffff"/>
                </a:solidFill>
                <a:latin typeface="Corbe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bcbc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83F4D8-B64D-4656-934D-B03DD7306B50}" type="slidenum">
              <a:rPr b="0" lang="en-U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bcbc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bcbc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66b0ff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66b0ff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80b1e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ac66b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de6c36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f9b639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cf6da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66714D-0D13-4AA7-A5BC-AF404FAF5E41}" type="datetime">
              <a:rPr b="0" lang="en-US" sz="1200" spc="-1" strike="noStrike">
                <a:solidFill>
                  <a:srgbClr val="ffffff"/>
                </a:solidFill>
                <a:latin typeface="Corbe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bcbc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BE7374-F68E-40C6-9BBD-0594758A38E3}" type="slidenum">
              <a:rPr b="0" lang="en-U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66b0ff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66b0ff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80b1e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cbc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  <a:p>
            <a:pPr lvl="1" marL="730080" indent="-272880">
              <a:buClr>
                <a:srgbClr val="ac66b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cbc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  <a:p>
            <a:pPr lvl="2" marL="995400" indent="-228600">
              <a:buClr>
                <a:srgbClr val="de6c36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cbc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  <a:p>
            <a:pPr lvl="3" marL="1216080" indent="-182520">
              <a:buClr>
                <a:srgbClr val="f9b639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cbc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  <a:p>
            <a:pPr lvl="4" marL="1425600" indent="-182520">
              <a:buClr>
                <a:srgbClr val="cf6da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cbc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  <a:p>
            <a:pPr lvl="5" marL="1425600" indent="-182520">
              <a:buClr>
                <a:srgbClr val="00bcbc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cbc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  <a:p>
            <a:pPr lvl="6" marL="1425600" indent="-182520">
              <a:buClr>
                <a:srgbClr val="00bcbc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cbc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fc0c0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4AF604-4445-4717-8701-2D61639A9CDF}" type="datetime">
              <a:rPr b="0" lang="en-US" sz="1200" spc="-1" strike="noStrike">
                <a:solidFill>
                  <a:srgbClr val="3fc0c0"/>
                </a:solidFill>
                <a:latin typeface="Corbe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bcbc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fc0c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E26AD3-A9FC-443E-9E0D-ABFCFB44F331}" type="slidenum">
              <a:rPr b="0" lang="en-US" sz="1200" spc="-1" strike="noStrike">
                <a:solidFill>
                  <a:srgbClr val="3fc0c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bcbc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bcbc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bcbc"/>
              </a:solidFill>
              <a:latin typeface="Aria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bcbc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66b0ff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66b0ff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80b1e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cbc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  <a:p>
            <a:pPr lvl="1" marL="730080" indent="-272880">
              <a:buClr>
                <a:srgbClr val="ac66b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cbc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  <a:p>
            <a:pPr lvl="2" marL="995400" indent="-228600">
              <a:buClr>
                <a:srgbClr val="de6c36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cbc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  <a:p>
            <a:pPr lvl="3" marL="1216080" indent="-182520">
              <a:buClr>
                <a:srgbClr val="f9b639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cbc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  <a:p>
            <a:pPr lvl="4" marL="1425600" indent="-182520">
              <a:buClr>
                <a:srgbClr val="cf6da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cbc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  <a:p>
            <a:pPr lvl="5" marL="1425600" indent="-182520">
              <a:buClr>
                <a:srgbClr val="00bcbc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cbc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  <a:p>
            <a:pPr lvl="6" marL="1425600" indent="-182520">
              <a:buClr>
                <a:srgbClr val="00bcbc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cbc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fc0c0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60CAF5-3A43-43D4-A40A-B513CC728773}" type="datetime">
              <a:rPr b="0" lang="en-US" sz="1200" spc="-1" strike="noStrike">
                <a:solidFill>
                  <a:srgbClr val="3fc0c0"/>
                </a:solidFill>
                <a:latin typeface="Corbe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bcbc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fc0c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71E19E-8327-4FD1-BD27-A3D1FBD217E1}" type="slidenum">
              <a:rPr b="0" lang="en-US" sz="1200" spc="-1" strike="noStrike">
                <a:solidFill>
                  <a:srgbClr val="3fc0c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bcbc"/>
              </a:solidFill>
              <a:latin typeface="Aria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bcbc"/>
              </a:solidFill>
              <a:latin typeface="Aria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bcbc"/>
              </a:solidFill>
              <a:latin typeface="Aria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bcbc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66b0ff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66b0ff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80b1e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cbc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  <a:p>
            <a:pPr lvl="1" marL="730080" indent="-272880">
              <a:buClr>
                <a:srgbClr val="ac66b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cbc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  <a:p>
            <a:pPr lvl="2" marL="995400" indent="-228600">
              <a:buClr>
                <a:srgbClr val="de6c36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cbc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  <a:p>
            <a:pPr lvl="3" marL="1216080" indent="-182520">
              <a:buClr>
                <a:srgbClr val="f9b639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cbc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  <a:p>
            <a:pPr lvl="4" marL="1425600" indent="-182520">
              <a:buClr>
                <a:srgbClr val="cf6da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cbc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  <a:p>
            <a:pPr lvl="5" marL="1425600" indent="-182520">
              <a:buClr>
                <a:srgbClr val="00bcbc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cbc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  <a:p>
            <a:pPr lvl="6" marL="1425600" indent="-182520">
              <a:buClr>
                <a:srgbClr val="00bcbc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cbc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fc0c0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64B09F-BEC8-4A3A-AB23-4E8CDB4A71DB}" type="datetime">
              <a:rPr b="0" lang="en-US" sz="1200" spc="-1" strike="noStrike">
                <a:solidFill>
                  <a:srgbClr val="3fc0c0"/>
                </a:solidFill>
                <a:latin typeface="Corbe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bcbc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fc0c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40EDF3-4F9C-43D1-9313-8C0A134E49D1}" type="slidenum">
              <a:rPr b="0" lang="en-US" sz="1200" spc="-1" strike="noStrike">
                <a:solidFill>
                  <a:srgbClr val="3fc0c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bcbc"/>
              </a:solidFill>
              <a:latin typeface="Aria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bcbc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66b0ff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66b0ff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80b1e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cbc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  <a:p>
            <a:pPr lvl="1" marL="730080" indent="-272880">
              <a:buClr>
                <a:srgbClr val="ac66b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cbc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  <a:p>
            <a:pPr lvl="2" marL="995400" indent="-228600">
              <a:buClr>
                <a:srgbClr val="de6c36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cbc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  <a:p>
            <a:pPr lvl="3" marL="1216080" indent="-182520">
              <a:buClr>
                <a:srgbClr val="f9b639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cbc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  <a:p>
            <a:pPr lvl="4" marL="1425600" indent="-182520">
              <a:buClr>
                <a:srgbClr val="cf6da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cbc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  <a:p>
            <a:pPr lvl="5" marL="1425600" indent="-182520">
              <a:buClr>
                <a:srgbClr val="00bcbc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cbc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  <a:p>
            <a:pPr lvl="6" marL="1425600" indent="-182520">
              <a:buClr>
                <a:srgbClr val="00bcbc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cbc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fc0c0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D0698D-9B2E-498B-814E-D6A4CAA116A0}" type="datetime">
              <a:rPr b="0" lang="en-US" sz="1200" spc="-1" strike="noStrike">
                <a:solidFill>
                  <a:srgbClr val="3fc0c0"/>
                </a:solidFill>
                <a:latin typeface="Corbe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bcbc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fc0c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E1E156-60FA-4FF7-8762-08FAAEA7E275}" type="slidenum">
              <a:rPr b="0" lang="en-US" sz="1200" spc="-1" strike="noStrike">
                <a:solidFill>
                  <a:srgbClr val="3fc0c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Title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80b1e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1c5698"/>
                </a:solidFill>
                <a:latin typeface="Corbel"/>
              </a:rPr>
              <a:t>What is the difference between prokaryotic and eukaryotic cells?</a:t>
            </a:r>
            <a:endParaRPr b="0" lang="en-US" sz="5500" spc="-1" strike="noStrike">
              <a:solidFill>
                <a:srgbClr val="00bcbc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Title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80b1e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1c5698"/>
                </a:solidFill>
                <a:uFillTx/>
                <a:latin typeface="Corbel"/>
              </a:rPr>
              <a:t>DNA is very important because it is the directions for making different parts of our bodies.</a:t>
            </a:r>
            <a:endParaRPr b="0" lang="en-US" sz="4400" spc="-1" strike="noStrike">
              <a:solidFill>
                <a:srgbClr val="00bcbc"/>
              </a:solidFill>
              <a:latin typeface="Corbel"/>
            </a:endParaRPr>
          </a:p>
          <a:p>
            <a:pPr marL="438120" indent="-318960">
              <a:buClr>
                <a:srgbClr val="80b1e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cbc"/>
              </a:solidFill>
              <a:latin typeface="Corbel"/>
            </a:endParaRPr>
          </a:p>
        </p:txBody>
      </p:sp>
      <p:pic>
        <p:nvPicPr>
          <p:cNvPr id="334" name="Picture 3" descr=""/>
          <p:cNvPicPr/>
          <p:nvPr/>
        </p:nvPicPr>
        <p:blipFill>
          <a:blip r:embed="rId2"/>
          <a:stretch/>
        </p:blipFill>
        <p:spPr>
          <a:xfrm>
            <a:off x="4572000" y="4049640"/>
            <a:ext cx="354348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Title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80b1e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1c5698"/>
                </a:solidFill>
                <a:latin typeface="Corbel"/>
              </a:rPr>
              <a:t>Why do we need DNA?</a:t>
            </a:r>
            <a:endParaRPr b="0" lang="en-US" sz="5700" spc="-1" strike="noStrike">
              <a:solidFill>
                <a:srgbClr val="00bcbc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Title 1" descr=""/>
          <p:cNvPicPr/>
          <p:nvPr/>
        </p:nvPicPr>
        <p:blipFill>
          <a:blip r:embed="rId1"/>
          <a:stretch/>
        </p:blipFill>
        <p:spPr>
          <a:xfrm>
            <a:off x="450720" y="2494080"/>
            <a:ext cx="8242560" cy="191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Title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80b1e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Title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80b1e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2" descr=""/>
          <p:cNvPicPr/>
          <p:nvPr/>
        </p:nvPicPr>
        <p:blipFill>
          <a:blip r:embed="rId1"/>
          <a:stretch/>
        </p:blipFill>
        <p:spPr>
          <a:xfrm>
            <a:off x="4419720" y="2057400"/>
            <a:ext cx="4419360" cy="4495680"/>
          </a:xfrm>
          <a:prstGeom prst="rect">
            <a:avLst/>
          </a:prstGeom>
          <a:ln w="0">
            <a:noFill/>
          </a:ln>
        </p:spPr>
      </p:pic>
      <p:sp>
        <p:nvSpPr>
          <p:cNvPr id="343" name="TextBox 7"/>
          <p:cNvSpPr/>
          <p:nvPr/>
        </p:nvSpPr>
        <p:spPr>
          <a:xfrm>
            <a:off x="7620120" y="1828800"/>
            <a:ext cx="76176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700" spc="-1" strike="noStrike">
                <a:solidFill>
                  <a:srgbClr val="00bcbc"/>
                </a:solidFill>
                <a:latin typeface="Constantia"/>
              </a:rPr>
              <a:t>2</a:t>
            </a:r>
            <a:endParaRPr b="0" lang="en-US" sz="3700" spc="-1" strike="noStrike">
              <a:solidFill>
                <a:srgbClr val="00bcbc"/>
              </a:solidFill>
              <a:latin typeface="Arial"/>
            </a:endParaRPr>
          </a:p>
        </p:txBody>
      </p:sp>
      <p:pic>
        <p:nvPicPr>
          <p:cNvPr id="344" name="Title 6" descr=""/>
          <p:cNvPicPr/>
          <p:nvPr/>
        </p:nvPicPr>
        <p:blipFill>
          <a:blip r:embed="rId2"/>
          <a:stretch/>
        </p:blipFill>
        <p:spPr>
          <a:xfrm>
            <a:off x="450720" y="139680"/>
            <a:ext cx="8242560" cy="131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Title 1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242560" cy="140184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2" descr=""/>
          <p:cNvPicPr/>
          <p:nvPr/>
        </p:nvPicPr>
        <p:blipFill>
          <a:blip r:embed="rId2"/>
          <a:stretch/>
        </p:blipFill>
        <p:spPr>
          <a:xfrm>
            <a:off x="304920" y="2057400"/>
            <a:ext cx="38098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Title 1" descr=""/>
          <p:cNvPicPr/>
          <p:nvPr/>
        </p:nvPicPr>
        <p:blipFill>
          <a:blip r:embed="rId1"/>
          <a:stretch/>
        </p:blipFill>
        <p:spPr>
          <a:xfrm>
            <a:off x="219240" y="2505240"/>
            <a:ext cx="8583480" cy="23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Title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80b1e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04617b"/>
                </a:solidFill>
                <a:latin typeface="Corbel"/>
              </a:rPr>
              <a:t>What organelle do eukaryotic and prokaryotic cells both have?</a:t>
            </a:r>
            <a:endParaRPr b="0" lang="en-US" sz="6100" spc="-1" strike="noStrike">
              <a:solidFill>
                <a:srgbClr val="00bcbc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5" descr=""/>
          <p:cNvPicPr/>
          <p:nvPr/>
        </p:nvPicPr>
        <p:blipFill>
          <a:blip r:embed="rId1"/>
          <a:stretch/>
        </p:blipFill>
        <p:spPr>
          <a:xfrm>
            <a:off x="4768920" y="2133720"/>
            <a:ext cx="4375080" cy="4483080"/>
          </a:xfrm>
          <a:prstGeom prst="rect">
            <a:avLst/>
          </a:prstGeom>
          <a:ln w="0">
            <a:noFill/>
          </a:ln>
        </p:spPr>
      </p:pic>
      <p:sp>
        <p:nvSpPr>
          <p:cNvPr id="351" name="Rectangle 3"/>
          <p:cNvSpPr/>
          <p:nvPr/>
        </p:nvSpPr>
        <p:spPr>
          <a:xfrm>
            <a:off x="380880" y="457200"/>
            <a:ext cx="777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b13f9a"/>
                </a:solidFill>
                <a:latin typeface="Corbel"/>
              </a:rPr>
              <a:t>R5</a:t>
            </a:r>
            <a:endParaRPr b="0" lang="en-US" sz="4400" spc="-1" strike="noStrike">
              <a:solidFill>
                <a:srgbClr val="00bcbc"/>
              </a:solidFill>
              <a:latin typeface="Arial"/>
            </a:endParaRPr>
          </a:p>
        </p:txBody>
      </p:sp>
      <p:sp>
        <p:nvSpPr>
          <p:cNvPr id="352" name="Rectangle 4"/>
          <p:cNvSpPr/>
          <p:nvPr/>
        </p:nvSpPr>
        <p:spPr>
          <a:xfrm>
            <a:off x="372960" y="1828800"/>
            <a:ext cx="4199040" cy="45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800" spc="-1" strike="noStrike">
                <a:solidFill>
                  <a:srgbClr val="04617b"/>
                </a:solidFill>
                <a:latin typeface="Constantia"/>
              </a:rPr>
              <a:t>How would you classify this cell? Why?</a:t>
            </a:r>
            <a:endParaRPr b="0" lang="en-US" sz="5800" spc="-1" strike="noStrike">
              <a:solidFill>
                <a:srgbClr val="00bcb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Title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80b1e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5698"/>
                </a:solidFill>
                <a:latin typeface="Corbel"/>
              </a:rPr>
              <a:t>1. Anticipatory Set</a:t>
            </a: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  <a:p>
            <a:pPr marL="438120" indent="-318960">
              <a:buClr>
                <a:srgbClr val="80b1e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5698"/>
                </a:solidFill>
                <a:latin typeface="Corbel"/>
              </a:rPr>
              <a:t>2. Objective</a:t>
            </a: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  <a:p>
            <a:pPr marL="438120" indent="-318960">
              <a:buClr>
                <a:srgbClr val="80b1e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5698"/>
                </a:solidFill>
                <a:latin typeface="Corbel"/>
              </a:rPr>
              <a:t>3. Input – notes on the nucleus</a:t>
            </a: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  <a:p>
            <a:pPr marL="438120" indent="-318960">
              <a:buClr>
                <a:srgbClr val="80b1e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5698"/>
                </a:solidFill>
                <a:latin typeface="Corbel"/>
              </a:rPr>
              <a:t>4. Guided practice</a:t>
            </a: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  <a:p>
            <a:pPr marL="438120" indent="-318960">
              <a:buClr>
                <a:srgbClr val="80b1e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5698"/>
                </a:solidFill>
                <a:latin typeface="Corbel"/>
              </a:rPr>
              <a:t>5. Independent Practice</a:t>
            </a: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  <a:p>
            <a:pPr marL="438120" indent="-318960">
              <a:buClr>
                <a:srgbClr val="80b1e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5698"/>
                </a:solidFill>
                <a:latin typeface="Corbel"/>
              </a:rPr>
              <a:t>6. Closing and Review</a:t>
            </a: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Title 5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8000"/>
          </a:bodyPr>
          <a:p>
            <a:pPr marL="429120" indent="-312480">
              <a:buClr>
                <a:srgbClr val="80b1e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4617b"/>
                </a:solidFill>
                <a:latin typeface="Corbel"/>
              </a:rPr>
              <a:t>You look through a microscope and see a cell that has a cell wall, ribosomes, cytoplasm, but no nucleus.  Should you classify this cell as prokaryotic or eukaryotic?</a:t>
            </a:r>
            <a:endParaRPr b="0" lang="en-US" sz="4300" spc="-1" strike="noStrike">
              <a:solidFill>
                <a:srgbClr val="00bcbc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Title 1" descr=""/>
          <p:cNvPicPr/>
          <p:nvPr/>
        </p:nvPicPr>
        <p:blipFill>
          <a:blip r:embed="rId2"/>
          <a:stretch/>
        </p:blipFill>
        <p:spPr>
          <a:xfrm>
            <a:off x="682560" y="3333600"/>
            <a:ext cx="8083440" cy="17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Rectangle 2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 txBox="1"/>
          <p:nvPr/>
        </p:nvSpPr>
        <p:spPr>
          <a:xfrm>
            <a:off x="0" y="129492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3000"/>
          </a:bodyPr>
          <a:p>
            <a:pPr marL="407160" indent="-296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cbc"/>
                </a:solidFill>
                <a:latin typeface="Corbel"/>
              </a:rPr>
              <a:t>	</a:t>
            </a:r>
            <a:r>
              <a:rPr b="0" lang="en-US" sz="4000" spc="-1" strike="noStrike">
                <a:solidFill>
                  <a:srgbClr val="1c5698"/>
                </a:solidFill>
                <a:latin typeface="Corbel"/>
              </a:rPr>
              <a:t>Form and Function</a:t>
            </a:r>
            <a:endParaRPr b="0" lang="en-US" sz="4000" spc="-1" strike="noStrike">
              <a:solidFill>
                <a:srgbClr val="00bcbc"/>
              </a:solidFill>
              <a:latin typeface="Corbel"/>
            </a:endParaRPr>
          </a:p>
          <a:p>
            <a:pPr lvl="1" marL="678960" indent="-253440">
              <a:spcBef>
                <a:spcPts val="1001"/>
              </a:spcBef>
              <a:buClr>
                <a:srgbClr val="ac66b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c5698"/>
                </a:solidFill>
                <a:latin typeface="Corbel"/>
              </a:rPr>
              <a:t>The form is how something is shaped</a:t>
            </a:r>
            <a:endParaRPr b="0" lang="en-US" sz="4000" spc="-1" strike="noStrike">
              <a:solidFill>
                <a:srgbClr val="00bcbc"/>
              </a:solidFill>
              <a:latin typeface="Corbel"/>
            </a:endParaRPr>
          </a:p>
          <a:p>
            <a:pPr lvl="2" marL="925560" indent="-212400">
              <a:spcBef>
                <a:spcPts val="601"/>
              </a:spcBef>
              <a:buClr>
                <a:srgbClr val="de6c36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5698"/>
                </a:solidFill>
                <a:latin typeface="Corbel"/>
              </a:rPr>
              <a:t>Form of an iPOD: a rectangular metal case which holds electronics</a:t>
            </a:r>
            <a:endParaRPr b="0" lang="en-US" sz="2400" spc="-1" strike="noStrike">
              <a:solidFill>
                <a:srgbClr val="00bcbc"/>
              </a:solidFill>
              <a:latin typeface="Corbel"/>
            </a:endParaRPr>
          </a:p>
          <a:p>
            <a:pPr lvl="1" marL="678960" indent="-253440">
              <a:spcBef>
                <a:spcPts val="1001"/>
              </a:spcBef>
              <a:buClr>
                <a:srgbClr val="ac66b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c5698"/>
                </a:solidFill>
                <a:latin typeface="Corbel"/>
              </a:rPr>
              <a:t>The function is what is used for…it’s purpose.</a:t>
            </a:r>
            <a:endParaRPr b="0" lang="en-US" sz="4000" spc="-1" strike="noStrike">
              <a:solidFill>
                <a:srgbClr val="00bcbc"/>
              </a:solidFill>
              <a:latin typeface="Corbel"/>
            </a:endParaRPr>
          </a:p>
          <a:p>
            <a:pPr lvl="2" marL="925560" indent="-212400">
              <a:spcBef>
                <a:spcPts val="751"/>
              </a:spcBef>
              <a:buClr>
                <a:srgbClr val="de6c36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5698"/>
                </a:solidFill>
                <a:latin typeface="Corbel"/>
              </a:rPr>
              <a:t>Function of an iPOD: an iPOD is used to play music and is often used when someone is </a:t>
            </a:r>
            <a:r>
              <a:rPr b="0" lang="en-US" sz="3000" spc="-1" strike="noStrike">
                <a:solidFill>
                  <a:srgbClr val="1c5698"/>
                </a:solidFill>
                <a:latin typeface="Corbel"/>
              </a:rPr>
              <a:t>studying, exercising or other times.  It is small so it can be carried around.</a:t>
            </a:r>
            <a:endParaRPr b="0" lang="en-US" sz="3000" spc="-1" strike="noStrike">
              <a:solidFill>
                <a:srgbClr val="00bcbc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Title 1" descr=""/>
          <p:cNvPicPr/>
          <p:nvPr/>
        </p:nvPicPr>
        <p:blipFill>
          <a:blip r:embed="rId1"/>
          <a:stretch/>
        </p:blipFill>
        <p:spPr>
          <a:xfrm>
            <a:off x="450720" y="139680"/>
            <a:ext cx="8242560" cy="131112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 txBox="1"/>
          <p:nvPr/>
        </p:nvSpPr>
        <p:spPr>
          <a:xfrm>
            <a:off x="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80b1e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 u="sng">
                <a:solidFill>
                  <a:srgbClr val="1c5698"/>
                </a:solidFill>
                <a:uFillTx/>
                <a:latin typeface="Corbel"/>
              </a:rPr>
              <a:t>The nucleus controls everything that happens in a cell. It is the brain of a cell because it stores all of the genetic material.   We call genetic material DNA. </a:t>
            </a:r>
            <a:endParaRPr b="0" lang="en-US" sz="4500" spc="-1" strike="noStrike">
              <a:solidFill>
                <a:srgbClr val="00bcbc"/>
              </a:solidFill>
              <a:latin typeface="Corbel"/>
            </a:endParaRPr>
          </a:p>
          <a:p>
            <a:pPr marL="438120" indent="-318960">
              <a:buClr>
                <a:srgbClr val="80b1e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bcbc"/>
              </a:solidFill>
              <a:latin typeface="Corbe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2"/>
          <a:stretch/>
        </p:blipFill>
        <p:spPr>
          <a:xfrm>
            <a:off x="5618160" y="-106200"/>
            <a:ext cx="3525840" cy="26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31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31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3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Title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1031760" indent="-914400">
              <a:buClr>
                <a:srgbClr val="80b1e8"/>
              </a:buClr>
              <a:buSzPct val="80000"/>
              <a:buFont typeface="Corbe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c5698"/>
                </a:solidFill>
                <a:latin typeface="Corbel"/>
              </a:rPr>
              <a:t>What is a function?</a:t>
            </a:r>
            <a:endParaRPr b="0" lang="en-US" sz="5000" spc="-1" strike="noStrike">
              <a:solidFill>
                <a:srgbClr val="00bcbc"/>
              </a:solidFill>
              <a:latin typeface="Corbel"/>
            </a:endParaRPr>
          </a:p>
          <a:p>
            <a:pPr marL="1031760" indent="-914400">
              <a:buClr>
                <a:srgbClr val="80b1e8"/>
              </a:buClr>
              <a:buSzPct val="80000"/>
              <a:buFont typeface="Corbe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c5698"/>
                </a:solidFill>
                <a:latin typeface="Corbel"/>
              </a:rPr>
              <a:t>What is the function of the nucleus?</a:t>
            </a:r>
            <a:endParaRPr b="0" lang="en-US" sz="5000" spc="-1" strike="noStrike">
              <a:solidFill>
                <a:srgbClr val="00bcbc"/>
              </a:solidFill>
              <a:latin typeface="Corbel"/>
            </a:endParaRPr>
          </a:p>
          <a:p>
            <a:pPr marL="1031760" indent="-914400">
              <a:buClr>
                <a:srgbClr val="80b1e8"/>
              </a:buClr>
              <a:buSzPct val="80000"/>
              <a:buFont typeface="Corbe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c5698"/>
                </a:solidFill>
                <a:latin typeface="Corbel"/>
              </a:rPr>
              <a:t>What is DNA?</a:t>
            </a:r>
            <a:endParaRPr b="0" lang="en-US" sz="5000" spc="-1" strike="noStrike">
              <a:solidFill>
                <a:srgbClr val="00bcbc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Title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80b1e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 u="sng">
                <a:solidFill>
                  <a:srgbClr val="1c5698"/>
                </a:solidFill>
                <a:uFillTx/>
                <a:latin typeface="Corbel"/>
              </a:rPr>
              <a:t>In prokaryotes DNA is found in the nucleoid.</a:t>
            </a:r>
            <a:endParaRPr b="0" lang="en-US" sz="4200" spc="-1" strike="noStrike">
              <a:solidFill>
                <a:srgbClr val="00bcbc"/>
              </a:solidFill>
              <a:latin typeface="Corbel"/>
            </a:endParaRPr>
          </a:p>
          <a:p>
            <a:pPr marL="438120" indent="-318960">
              <a:buClr>
                <a:srgbClr val="80b1e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 u="sng">
                <a:solidFill>
                  <a:srgbClr val="1c5698"/>
                </a:solidFill>
                <a:uFillTx/>
                <a:latin typeface="Corbel"/>
              </a:rPr>
              <a:t>In eukaryotes DNA is found in the nucleus.</a:t>
            </a:r>
            <a:endParaRPr b="0" lang="en-US" sz="4200" spc="-1" strike="noStrike">
              <a:solidFill>
                <a:srgbClr val="00bcbc"/>
              </a:solidFill>
              <a:latin typeface="Corbel"/>
            </a:endParaRPr>
          </a:p>
          <a:p>
            <a:pPr marL="438120" indent="-318960">
              <a:buClr>
                <a:srgbClr val="80b1e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bcbc"/>
              </a:solidFill>
              <a:latin typeface="Corbel"/>
            </a:endParaRPr>
          </a:p>
        </p:txBody>
      </p:sp>
      <p:pic>
        <p:nvPicPr>
          <p:cNvPr id="324" name="Picture 2" descr=""/>
          <p:cNvPicPr/>
          <p:nvPr/>
        </p:nvPicPr>
        <p:blipFill>
          <a:blip r:embed="rId2"/>
          <a:stretch/>
        </p:blipFill>
        <p:spPr>
          <a:xfrm>
            <a:off x="4572000" y="4314960"/>
            <a:ext cx="1509840" cy="160020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2" descr=""/>
          <p:cNvPicPr/>
          <p:nvPr/>
        </p:nvPicPr>
        <p:blipFill>
          <a:blip r:embed="rId3"/>
          <a:stretch/>
        </p:blipFill>
        <p:spPr>
          <a:xfrm>
            <a:off x="6935760" y="4314960"/>
            <a:ext cx="1751040" cy="178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Title 1" descr=""/>
          <p:cNvPicPr/>
          <p:nvPr/>
        </p:nvPicPr>
        <p:blipFill>
          <a:blip r:embed="rId1"/>
          <a:stretch/>
        </p:blipFill>
        <p:spPr>
          <a:xfrm>
            <a:off x="450720" y="139680"/>
            <a:ext cx="8242560" cy="131112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 txBox="1"/>
          <p:nvPr/>
        </p:nvSpPr>
        <p:spPr>
          <a:xfrm>
            <a:off x="457200" y="2006280"/>
            <a:ext cx="8229600" cy="46242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7000"/>
          </a:bodyPr>
          <a:p>
            <a:pPr marL="424800" indent="-309240">
              <a:lnSpc>
                <a:spcPct val="90000"/>
              </a:lnSpc>
              <a:buClr>
                <a:srgbClr val="80b1e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1c5698"/>
                </a:solidFill>
                <a:uFillTx/>
                <a:latin typeface="Corbel"/>
              </a:rPr>
              <a:t>A nucleus is enclosed by the nuclear envelope which helps protect the DNA. </a:t>
            </a:r>
            <a:endParaRPr b="0" lang="en-US" sz="4400" spc="-1" strike="noStrike">
              <a:solidFill>
                <a:srgbClr val="00bcbc"/>
              </a:solidFill>
              <a:latin typeface="Corbel"/>
            </a:endParaRPr>
          </a:p>
          <a:p>
            <a:pPr marL="424800" indent="-309240">
              <a:lnSpc>
                <a:spcPct val="90000"/>
              </a:lnSpc>
              <a:buClr>
                <a:srgbClr val="80b1e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1c5698"/>
                </a:solidFill>
                <a:uFillTx/>
                <a:latin typeface="Corbel"/>
              </a:rPr>
              <a:t>A nucleoid is not enclosed by a membrane; instead the DNA just bunches together with nothing to contain it.</a:t>
            </a:r>
            <a:endParaRPr b="0" lang="en-US" sz="4400" spc="-1" strike="noStrike">
              <a:solidFill>
                <a:srgbClr val="00bcbc"/>
              </a:solidFill>
              <a:latin typeface="Corbel"/>
            </a:endParaRPr>
          </a:p>
          <a:p>
            <a:pPr marL="424800" indent="-309240">
              <a:lnSpc>
                <a:spcPct val="90000"/>
              </a:lnSpc>
              <a:buClr>
                <a:srgbClr val="80b1e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cbc"/>
              </a:solidFill>
              <a:latin typeface="Corbel"/>
            </a:endParaRPr>
          </a:p>
        </p:txBody>
      </p:sp>
      <p:pic>
        <p:nvPicPr>
          <p:cNvPr id="328" name="Picture 2" descr=""/>
          <p:cNvPicPr/>
          <p:nvPr/>
        </p:nvPicPr>
        <p:blipFill>
          <a:blip r:embed="rId2"/>
          <a:stretch/>
        </p:blipFill>
        <p:spPr>
          <a:xfrm>
            <a:off x="5329080" y="0"/>
            <a:ext cx="2025720" cy="214632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2" descr=""/>
          <p:cNvPicPr/>
          <p:nvPr/>
        </p:nvPicPr>
        <p:blipFill>
          <a:blip r:embed="rId3"/>
          <a:stretch/>
        </p:blipFill>
        <p:spPr>
          <a:xfrm>
            <a:off x="6945480" y="0"/>
            <a:ext cx="2198520" cy="22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Title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631800" indent="-514440">
              <a:buClr>
                <a:srgbClr val="80b1e8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c5698"/>
                </a:solidFill>
                <a:latin typeface="Corbel"/>
              </a:rPr>
              <a:t>What is the difference between the location of DNA in prokaryotes and in eukaryotes?</a:t>
            </a:r>
            <a:endParaRPr b="0" lang="en-US" sz="3800" spc="-1" strike="noStrike">
              <a:solidFill>
                <a:srgbClr val="00bcbc"/>
              </a:solidFill>
              <a:latin typeface="Corbel"/>
            </a:endParaRPr>
          </a:p>
          <a:p>
            <a:pPr marL="631800" indent="-514440">
              <a:buClr>
                <a:srgbClr val="80b1e8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c5698"/>
                </a:solidFill>
                <a:latin typeface="Corbel"/>
              </a:rPr>
              <a:t>Does a nucleus have a nuclear envelope?</a:t>
            </a:r>
            <a:endParaRPr b="0" lang="en-US" sz="3800" spc="-1" strike="noStrike">
              <a:solidFill>
                <a:srgbClr val="00bcbc"/>
              </a:solidFill>
              <a:latin typeface="Corbel"/>
            </a:endParaRPr>
          </a:p>
          <a:p>
            <a:pPr marL="631800" indent="-514440">
              <a:buClr>
                <a:srgbClr val="80b1e8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c5698"/>
                </a:solidFill>
                <a:latin typeface="Corbel"/>
              </a:rPr>
              <a:t>Does a nucleoid have a nuclear envelope?</a:t>
            </a:r>
            <a:endParaRPr b="0" lang="en-US" sz="3800" spc="-1" strike="noStrike">
              <a:solidFill>
                <a:srgbClr val="00bcbc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2T13:10:36Z</dcterms:created>
  <dc:creator>Caroline Roth</dc:creator>
  <dc:description/>
  <dc:language>en-US</dc:language>
  <cp:lastModifiedBy>Caroline Roth</cp:lastModifiedBy>
  <dcterms:modified xsi:type="dcterms:W3CDTF">2011-05-24T01:17:48Z</dcterms:modified>
  <cp:revision>6</cp:revision>
  <dc:subject/>
  <dc:title>Slide 1</dc:title>
</cp:coreProperties>
</file>